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A9EA5-0DEA-4238-AB41-5D8B184FD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3029-80E1-43C8-850E-1E6F943E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BBBA2-899B-49D2-AC56-8EB4F93B4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54FDE-C1C4-4416-928E-B5335FA71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3F16F-32E5-4CCA-9826-48ADD8E0B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3B504-60A4-4421-9B05-E64D41AD2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19C8D-B200-4150-9123-9032F3F30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720E1-14C7-46C3-93D8-ACA1656F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3A8C2-405E-46E8-97A0-014B9D53E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A757C-2317-405E-8AD9-7DD90531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1A2F4-F260-485E-8408-7B34B6467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68AF-FB08-4F9D-9DC8-721706E96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F2CEF-540C-42C3-8579-6863995C8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60C14-8765-4B76-BCC7-C0CE8BB28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BBB87-662F-4231-8267-793E1C2A7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B3969-C4DB-46C4-971C-969771248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639F2-5B7A-491E-A08D-2889EB90A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E31FD-65F2-4BF6-A55D-E7A2896A3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60605-1492-4EDF-9776-B3F80FC08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31538-28B1-4711-9C33-5100E18CA1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E724C-69C8-4742-98C8-3DBDE9CEF0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5AA36-4F79-40DF-8B07-771C5884E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EBD6-4B1E-424F-828C-D2C923A5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CEFA8-0C93-4BC1-9F07-F31710046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53E5D-12E6-49B1-9119-3DB82674C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70FD3-CFE8-4BAE-851C-F93EB0593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C8206-FF57-4E3E-99E4-42829AFD5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A92C3-2AD4-4C48-9A4E-6E55D8D27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377F1-F58E-4C54-BA4B-A5AB5C391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12BB2-8B56-4339-860F-3C032B0C5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CAB36-A789-4518-9077-6EA6AC776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D164CF-011F-4D77-A837-313791A10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A27041-A955-4A93-BD28-110D52224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2001-262D-4FCD-A506-67052126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1FFBD-563A-4B3E-8ACD-0BE27BF8E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9701D-B5B0-4B27-BEB9-9CE9BF0EC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FB639-50D6-4466-B92E-EB89C2B18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B73F7-8360-4846-8D5E-7F475C29C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F7D02-9B06-4746-94DE-6298DE8C5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98DC6-937A-4B1D-B7E5-9821F82462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7B0C5-612E-4FD4-9971-20083FD01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C2077D-B39F-4AE1-9B1E-A5ACE3E36A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4B831-5ED2-461C-A62F-58B78EB6B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E9295-DD6C-4609-9DE2-E36CF8505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0955-8EA7-415E-A7BB-C753A5AC1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C4F3B-2783-4AA3-8451-CB199648F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59C0F-66FB-4ED5-9306-DF08835AF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4515B6-276F-4729-BE27-B21E0E172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DEB07-103C-4C8B-BA58-C96ECED86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F8D92-ADE1-41B5-B2CF-CA79C1AD0B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93B89-1BBD-45CB-8721-61C1F3C61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0DC67-B3C0-4DF2-BC01-DF16B1D9C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15602-9738-4B72-A882-DCE00515C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CECE0-55FB-4959-B44D-3509ECDF0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1FFED6-541E-43E2-ADBA-F03B22FCD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ACAD9-8CF4-4A9B-8845-49758CA4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F505C0-A668-41CA-9588-BD67C64D83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9961-DBCC-4211-B6EB-25463AFD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82BC-4612-46E5-B162-9889AC26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BEC5-CE2A-4320-A0BB-95073CBC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BC61-9569-41CC-9BFA-D7C0962F03B1}"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B33A-23D0-4509-812F-34CF3EF81B1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C30A-553B-41AD-AB26-2907198EABA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A74E-F546-4ECE-A85E-83EFBA8448DC}"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3C86-3ACB-4137-9D61-2BCDE50B42E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529240" cy="31942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324000"/>
            <a:ext cx="7486560" cy="14317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oking for similarities/tren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 Both Ancient Egypt and Sumeria had similar geographical benefits such as fertile soil created by major rivers.  Egypt had the “Life blood” of the Nile while the Tigris and Euphrates rivers created the Fertile Crescen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7"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24000"/>
            <a:ext cx="7486560" cy="14317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s the differences or unique qual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 Although both Mesopotamia and Egypt were ruled by kings and priests, the power each leader had was distinct.  Mesopotamian kings were really powerful but had control over one major city or region while Egyptian pharaohs were considered living gods and had total power and would rule in this life and the nex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1:36:41Z</dcterms:created>
  <dc:creator>Kuenzi</dc:creator>
  <dc:description/>
  <dc:language>en-US</dc:language>
  <cp:lastModifiedBy>Kuenzi</cp:lastModifiedBy>
  <dcterms:modified xsi:type="dcterms:W3CDTF">2014-10-15T12:44:37Z</dcterms:modified>
  <cp:revision>6</cp:revision>
  <dc:subject/>
  <dc:title>Making Inferences</dc:title>
</cp:coreProperties>
</file>